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02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dt" idx="16"/>
          </p:nvPr>
        </p:nvSpPr>
        <p:spPr>
          <a:xfrm>
            <a:off x="427824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17"/>
          </p:nvPr>
        </p:nvSpPr>
        <p:spPr>
          <a:xfrm>
            <a:off x="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18"/>
          </p:nvPr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B0300-2A24-4340-8D41-D02A5CF694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85AF7-7953-4E1C-9AEC-D0990AF6EB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E1F8B-6DFF-49F4-B378-5C974A2527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B203F-05B2-4F06-B28A-9EB747497B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54A43-9821-4B62-9B68-ED6DCCF5DA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044E4-3034-43C2-A7ED-EF72A29BA1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DC46D-4CEA-486E-B3F2-597E3B3AE9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4AFF1-548E-4132-AB77-76280D4F89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0D2D3-1B4A-43C1-A9ED-5100628B35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FA1F8C-0455-4F19-AF57-8EB0820A88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6B7AD-329A-4B82-B7AC-F595E54557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92D01-77ED-4355-BEA7-BC9760D4AB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219B1-8BB0-4A57-966C-3AA591DE5C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2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23E19-EC56-409A-9117-004B780274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B3F46-0CA5-4EF3-96E1-C2CF9913E3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3EB90-4F53-45A3-8E00-767D0905D4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EB894-6E3B-46A8-871A-1AE1D15701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2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ED4DC-DB32-404F-8417-18FF086A07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8BD23-0E2A-4ABC-BAAC-32B5C40600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D1FBE-CBDF-48A7-9634-333113023E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F0F0B-49C7-4DC8-9686-9E40BD1C43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B268B-E957-4DBF-BD74-FD5B18739B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1C057-5F77-49ED-8BF2-67DFD4F337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5AE61-5833-4974-8077-8AE78407B9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8E80B-C151-469C-B236-F4A74F56CB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9A99AD-6008-406B-8621-8429FF1630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1F6A3-A6E3-47A7-ABAA-7EA7DA5C83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EDD48-5220-44A0-B679-7574780467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DCDC-C2CC-4A94-919F-93DEF2B4F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130E-1424-4487-A6F9-40391ABA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ED74-1B94-4215-821B-621665D4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09B9-582D-4077-A346-88AB1342F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C872-56AE-4826-BA61-0D4CD40C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65A9-B156-49CB-A67F-D42D9A27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5112-793C-4AF4-BD21-CACB9368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72D9-6430-4C00-AFC8-FEFCD789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8F18-DF50-4DFD-B671-8F5221A1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4521-385B-4DF6-B678-323BE878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0D59-0910-44A2-940D-8751AEC8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657C-B0D1-4D6C-88F7-296AED09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AE28-EE87-467A-9D5A-A245B5A3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6FAE-A62A-475C-9AE5-FFFAF4A9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9F1B-7DD5-417A-B962-8BE2961E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CB44-D3EA-47AF-9C5B-B54A02AA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65FF-D5C7-43BA-A3EE-2E8FFFF5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EECFE-72A5-4037-891A-4B32B3D0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CC510-E2BB-4DC1-8EED-EDBCDDE8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6F10D-BA0E-48B5-86D1-2FF2FC2C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116DB-713B-49E0-B448-4DC2E6C6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95C14-0FC8-4667-8B85-2E636A6D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9213-2D32-4C5C-8848-42E01A03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01333-724D-42C1-AB8B-40A44B5A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DA261-DA54-4E8C-8683-D2E87858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403FE-07EF-4FF1-8421-AEE91A51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FF3B3-CB27-47A2-B18D-F76CF90B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9B789-A05B-4F35-ACAC-0CC7A4D8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98A5F-D5A9-4484-BD04-D3211C2E5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491BE-C375-49C7-A62C-F7F0E867E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9209E-CD04-48F1-AED9-BA2B24A36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DBE79-FEA5-4BEF-8115-A6868561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EEF1B-881B-4C39-BDCD-82CB98D8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425B-43B3-4BD9-B8C4-6F952740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D14C6-0E37-43E1-A44F-813557E1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D83A3-8042-4C6C-8B67-BBF47881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DB197-8D72-4120-83E3-622CA5F5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72C86-D7F7-4B3A-93C0-037B8A0D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2123A-4B7A-4B63-9BE2-E5FFA4CD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FA8A1-9378-42AC-A8FC-B76DE102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36838-D7F6-4C3C-8A3A-AF898DF3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AC209-B470-4683-8BD4-3B48F6CD1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3B0B1-1E75-4A24-8C30-6A8B251AF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38063-B9AC-4A76-8E97-E36C7A8E8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AEB5-7B97-4B40-9FE0-1F066C6A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A12EA-312A-4702-873F-4C9EFB04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68763-15CE-4C6C-8E31-FF3C7E49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F41E0-6AAE-4980-B71C-A58253B5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FD1B6-2FB3-4B4B-B850-62A3B9FA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8C0C7-CEFA-4270-BDC1-B1E91579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D12AD-53E5-4AE0-B3CE-8C1DBBB2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FF144-3E20-43C9-9AEC-C0CAEABE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E401B-903A-4083-A481-86F3BCA3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352EB-E76E-4AE4-B01F-F5B260BC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9A4DA-160A-4618-92B6-B2500BDD3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68B6-63AE-40D8-8B0E-86539DEB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2A2B0-0446-40D8-96C6-520A4385A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95A5-C2A9-4DBE-A949-C0D73528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4AF3-9869-464A-86A1-7B530F8A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3157-6F36-434B-A5E1-E95EB6D5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DE1FC-389F-423D-8E92-7B85F82FC0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E45B0-6CE5-4C93-95E8-2697F25F76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D8241-3ED9-49E8-9960-6469FAC6D5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EDD68-26BF-4795-A47B-E3C79A5717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ADDD5-5D22-4880-820C-D68BA1EEBC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2059920" y="1324080"/>
            <a:ext cx="5929200" cy="8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Be with Me, L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4416480" y="2201760"/>
            <a:ext cx="892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20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474840" y="6519960"/>
            <a:ext cx="1807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2"/>
          <p:cNvSpPr/>
          <p:nvPr/>
        </p:nvSpPr>
        <p:spPr>
          <a:xfrm>
            <a:off x="1819800" y="1476360"/>
            <a:ext cx="6371280" cy="26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ve the Lord your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so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your strength (2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2"/>
          <p:cNvSpPr/>
          <p:nvPr/>
        </p:nvSpPr>
        <p:spPr>
          <a:xfrm>
            <a:off x="2271960" y="426960"/>
            <a:ext cx="5520960" cy="62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so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your 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ve the Lord your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so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your 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"/>
          <p:cNvSpPr/>
          <p:nvPr/>
        </p:nvSpPr>
        <p:spPr>
          <a:xfrm>
            <a:off x="1990440" y="1476360"/>
            <a:ext cx="6067800" cy="26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serve the L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o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my strength (2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"/>
          <p:cNvSpPr/>
          <p:nvPr/>
        </p:nvSpPr>
        <p:spPr>
          <a:xfrm>
            <a:off x="2252160" y="426960"/>
            <a:ext cx="5217480" cy="52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o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my 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serve the L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o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my 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2"/>
          <p:cNvSpPr/>
          <p:nvPr/>
        </p:nvSpPr>
        <p:spPr>
          <a:xfrm>
            <a:off x="2810880" y="274680"/>
            <a:ext cx="4391640" cy="62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love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 will love Yo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praise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 will praise Yo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serve You, L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 will serve Yo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trust You, L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 will trust Yo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"/>
          <p:cNvSpPr/>
          <p:nvPr/>
        </p:nvSpPr>
        <p:spPr>
          <a:xfrm>
            <a:off x="2458440" y="1036800"/>
            <a:ext cx="5217480" cy="46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o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my 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o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2"/>
          <p:cNvSpPr/>
          <p:nvPr/>
        </p:nvSpPr>
        <p:spPr>
          <a:xfrm>
            <a:off x="1990440" y="1476360"/>
            <a:ext cx="6067800" cy="26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love You L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o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my strength (3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-360360" y="1403280"/>
            <a:ext cx="11245680" cy="24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When I Survey /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5200" spc="-1" strike="noStrike">
                <a:solidFill>
                  <a:srgbClr val="ffffff"/>
                </a:solidFill>
                <a:latin typeface="Verdana"/>
              </a:rPr>
              <a:t>O The Wonderful Cross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3"/>
          <p:cNvSpPr/>
          <p:nvPr/>
        </p:nvSpPr>
        <p:spPr>
          <a:xfrm>
            <a:off x="773280" y="1874880"/>
            <a:ext cx="8839080" cy="20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When I survey the wondrous cros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n which the Prince of glory died,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My richest gain I count but loss,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nd pour contempt on all my pr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797040" y="901800"/>
            <a:ext cx="8335800" cy="56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Sometimes I feel that I could figh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n army with just me and You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nd there’s no one could harm 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h, but sometimes I can feel a little sh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It’s then I need to kno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that You are t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That’s wh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I’m sin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3"/>
          <p:cNvSpPr/>
          <p:nvPr/>
        </p:nvSpPr>
        <p:spPr>
          <a:xfrm>
            <a:off x="468360" y="1798560"/>
            <a:ext cx="9144000" cy="20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See from His head, His hands, His feet,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Sorrow and love flow mingled down!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Did e’er such love and sorrow meet,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r thorns compose so rich a crow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3"/>
          <p:cNvSpPr/>
          <p:nvPr/>
        </p:nvSpPr>
        <p:spPr>
          <a:xfrm>
            <a:off x="773280" y="426960"/>
            <a:ext cx="8839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the wonderful cros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the wonderful cr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ids me come and d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nd find that I may truly l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849240" y="2484360"/>
            <a:ext cx="883944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the wonderful cros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the wonderful cr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ll who gather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y grace draw near and b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Your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1106640" y="1341360"/>
            <a:ext cx="79149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Were the whole realm of nature mine,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That were a present far too small: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Love so amazing, so divine,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Demands my soul, my life, my 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3"/>
          <p:cNvSpPr/>
          <p:nvPr/>
        </p:nvSpPr>
        <p:spPr>
          <a:xfrm>
            <a:off x="773280" y="426960"/>
            <a:ext cx="8839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the wonderful cros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the wonderful cr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ids me come and d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nd find that I may truly l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849240" y="2484360"/>
            <a:ext cx="883944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the wonderful cros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the wonderful cr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ll who gather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y grace draw near and b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Your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3"/>
          <p:cNvSpPr/>
          <p:nvPr/>
        </p:nvSpPr>
        <p:spPr>
          <a:xfrm>
            <a:off x="773280" y="1379520"/>
            <a:ext cx="8839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the wonderful cros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the wonderful cr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ids me come and d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nd find that I may truly l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588680" y="808200"/>
            <a:ext cx="6947280" cy="20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Love so amazing, so divine,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Demands my soul, my life, my 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093840" y="1403280"/>
            <a:ext cx="3640320" cy="8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Sanctuar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4624560" y="2352600"/>
            <a:ext cx="892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4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1182960" y="2712960"/>
            <a:ext cx="7732080" cy="35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Lord, prepare me to be a sanctu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Pure and holy, tried and tru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With thanksgiving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I’ll be a living sanctuary for Yo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5"/>
          <p:cNvSpPr/>
          <p:nvPr/>
        </p:nvSpPr>
        <p:spPr>
          <a:xfrm>
            <a:off x="239760" y="2705040"/>
            <a:ext cx="9524880" cy="26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It was You, Lord, who gave the S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Heart and soul, Lord, to ev’ry m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It is You, Lor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Who knows my weaknes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You refine me with thine own h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0" y="2179800"/>
            <a:ext cx="98409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e with me, Lord, Be with me, Lor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e with me Lord, Be with me, Be with m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e with me, Lor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e with me, Lord, Be with me, Lor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e with me, be my only G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1182960" y="2712960"/>
            <a:ext cx="7732080" cy="35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Lord, prepare me to be a sanctu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Pure and holy, tried and tru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With thanksgiving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I’ll be a living sanctuary for Yo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5"/>
          <p:cNvSpPr/>
          <p:nvPr/>
        </p:nvSpPr>
        <p:spPr>
          <a:xfrm>
            <a:off x="544680" y="2789280"/>
            <a:ext cx="8915400" cy="33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Lead me O Lord, through temptatio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You refine me from withi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Fill our hearts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Your Holy Spiri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nd take all our sins a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1182960" y="2712960"/>
            <a:ext cx="7732080" cy="35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Lord, prepare me to be a sanctu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Pure and holy, tried and tru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With thanksgiving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I’ll be a living sanctuary for Yo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1182960" y="2712960"/>
            <a:ext cx="7732080" cy="35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Lord, prepare me to be a sanctu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Pure and holy, tried and tru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With thanksgiving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I’ll be a living sanctuary for Yo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2683800" y="1116000"/>
            <a:ext cx="5027040" cy="8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Awesome Go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4757760" y="2200320"/>
            <a:ext cx="892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44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1079640" y="5940360"/>
            <a:ext cx="1807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1972800" y="1303200"/>
            <a:ext cx="624456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ur God is an awesome Go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He reigns from heaven abo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with wisdom, pow’r and lov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ur God is an awesome Go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795240" y="1569960"/>
            <a:ext cx="8479080" cy="46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I know You said that I would not b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tested more than I could bear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nd that You have my best in mi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With ev’rything that ever comes my wa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I know You’re in control s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hear me as I pray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I’m sin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0" y="2255760"/>
            <a:ext cx="98409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e with me, Lord, Be with me, Lor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e with me Lord, Be with me, Be with m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e with me, Lor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e with me, Lord, Be with me, Lor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e with me, be my only G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1465920" y="579600"/>
            <a:ext cx="713772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Now help me, Lord, to share wh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I’ve been give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Help me make a diff’rence wi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the life I’m liv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s I show my neighbor whe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true treasure’s store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Help me know You promis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You’d be with me, Lor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I’m sin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0" y="2027160"/>
            <a:ext cx="98409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e with me, Lord, Be with me, Lor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e with me Lord, Be with me, Be with m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e with me, Lor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e with me, Lord, Be with me, Lor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e with me, be my only G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2"/>
          <p:cNvSpPr/>
          <p:nvPr/>
        </p:nvSpPr>
        <p:spPr>
          <a:xfrm>
            <a:off x="2444400" y="1957320"/>
            <a:ext cx="515196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Love The Lord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Your Go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cwade</dc:creator>
  <dc:description/>
  <dc:language>en-US</dc:language>
  <cp:lastModifiedBy>pcwade</cp:lastModifiedBy>
  <dcterms:modified xsi:type="dcterms:W3CDTF">2015-03-12T05:58:59Z</dcterms:modified>
  <cp:revision>10</cp:revision>
  <dc:subject/>
  <dc:title>Slide 1</dc:title>
</cp:coreProperties>
</file>